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13510"/>
        <c:axId val="69916870"/>
      </c:barChart>
      <c:catAx>
        <c:axId val="57513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6870"/>
        <c:crosses val="autoZero"/>
        <c:auto val="1"/>
        <c:lblAlgn val="ctr"/>
        <c:lblOffset val="100"/>
        <c:noMultiLvlLbl val="0"/>
      </c:catAx>
      <c:valAx>
        <c:axId val="69916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13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EDE-6051-4E3B-99E2-B2E2A2C1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517-0D3F-4B0B-BC3C-0CC4B8CF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A26-2256-4834-B61E-D57C82FD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B88-5E6C-44C1-86C6-E1545E72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2D3-82B8-4264-A334-F19BBF49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7E4-3252-407C-A6A6-9A6D5D78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285-9C60-4015-95CC-C91C7F8E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8BA-8436-488D-BAC4-B8FAF09E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9BF-ED9E-4D86-9271-892827F2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B92-C3E4-408E-ABA5-D83E7ABF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53D-E17A-48B0-AD4C-B304FE7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C72-2ADF-43E3-AA58-10394149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6A703-F3C3-4A69-B0EC-E13913CF41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