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46837"/>
        <c:axId val="36451119"/>
      </c:barChart>
      <c:catAx>
        <c:axId val="27846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1119"/>
        <c:crosses val="autoZero"/>
        <c:auto val="1"/>
        <c:lblAlgn val="ctr"/>
        <c:lblOffset val="100"/>
        <c:noMultiLvlLbl val="0"/>
      </c:catAx>
      <c:valAx>
        <c:axId val="36451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46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772-6E31-44F1-BFAE-E44E49E7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98D-8CA5-4EC1-8A5C-65C3D70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3B8-5BAD-4521-BDF7-A7A5FE5E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830-36FE-44C4-A800-93018681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4F8-87C8-425B-8D11-C4C09C6B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0A1-D18F-4CE6-A0A2-108D392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BA9-BF17-4EF9-890B-EC765451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90F-C2F0-491E-9FA0-68DD2E1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504-1AF1-4754-9324-8CDC2B84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E10-F82C-4766-9A1C-159E818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04F-A6B4-4ECA-B72A-781B760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20D-0D59-42AA-A862-712C753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570EF-B137-4983-A92D-97E0F4328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