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371948"/>
        <c:axId val="41396962"/>
      </c:barChart>
      <c:catAx>
        <c:axId val="523719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396962"/>
        <c:crosses val="autoZero"/>
        <c:auto val="1"/>
        <c:lblAlgn val="ctr"/>
        <c:lblOffset val="100"/>
        <c:noMultiLvlLbl val="0"/>
      </c:catAx>
      <c:valAx>
        <c:axId val="413969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719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85C8-EC33-4AAF-A51C-9F943E6CF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1075-BE4B-4096-9079-4BE6471E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B169-47C5-47DC-ACE2-1D7385BE3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B8A7-EFA3-49CB-A3C1-FA819D1B2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B102-823E-4462-A75D-35B4706F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9FE0-0258-457C-9A78-5134EC2B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9EC9-CB8D-4A21-A7CA-D5455228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2F7E-4556-4157-8405-0729D43C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9BA3-31B7-4771-9DA6-910E3E1F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B5D2-8DC0-403A-9BE0-3BE62E3C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BECA-6E3A-41CE-9A34-9881F535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5856-B8BE-42BA-B6E4-CF8E24F2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FB139-056B-4857-8C7C-B256DCFA01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