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14905"/>
        <c:axId val="61223183"/>
      </c:barChart>
      <c:catAx>
        <c:axId val="91314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3183"/>
        <c:crosses val="autoZero"/>
        <c:auto val="1"/>
        <c:lblAlgn val="ctr"/>
        <c:lblOffset val="100"/>
        <c:noMultiLvlLbl val="0"/>
      </c:catAx>
      <c:valAx>
        <c:axId val="61223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4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6F2-42B4-47A2-99D1-8E98657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C0C-FCAA-4F62-95F7-01F3E30C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F95-D63C-4A3A-BDD0-22E7C248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D50-4940-4887-9AC1-83818868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1E3-A635-4F50-BB08-638BF486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6BC-0BF0-477A-A8ED-C85D585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448-16AA-4B74-BEF6-F869D1AC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60C-D24E-489C-AE2F-46C62E40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101-BC89-4947-BF73-8DE582C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784-1837-4722-8394-C7FF58A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371-2E7B-4EE3-BB5B-13B0A0A3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AD1-EFA4-444D-887F-5388CD5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25F4D-62D9-4810-A5A5-68682E9C3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