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521"/>
        <c:axId val="55511334"/>
      </c:barChart>
      <c:catAx>
        <c:axId val="339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11334"/>
        <c:crosses val="autoZero"/>
        <c:auto val="1"/>
        <c:lblAlgn val="ctr"/>
        <c:lblOffset val="100"/>
        <c:noMultiLvlLbl val="0"/>
      </c:catAx>
      <c:valAx>
        <c:axId val="55511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D80-A509-42A3-8892-98537DC1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365-717C-45A8-A7BF-5DCB88A4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20B-3741-49BE-9E06-C39F5CC4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B99-3AD2-453C-BC34-AFD87D1B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E06-8710-4D86-AA24-1CA0924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0BC-CC53-4817-8DDF-8DFEBE7F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014-0D19-4EA1-B460-8E2FD336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DDF-5AE6-44D6-A5FD-1CF00EA1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418-91D2-4B51-BE30-F09FF78B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9B1-F61C-4889-83FB-FE8DE97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5A8-6E46-4429-8CB4-67CB99D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110-540E-4462-ABD8-94E7BC77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BC6DD-52A0-44E1-956C-678063E4B9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