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33407"/>
        <c:axId val="78575102"/>
      </c:barChart>
      <c:catAx>
        <c:axId val="30033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75102"/>
        <c:crosses val="autoZero"/>
        <c:auto val="1"/>
        <c:lblAlgn val="ctr"/>
        <c:lblOffset val="100"/>
        <c:noMultiLvlLbl val="0"/>
      </c:catAx>
      <c:valAx>
        <c:axId val="78575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33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483-8407-410B-9438-6487D9B9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627-8F25-4BCE-ACA8-FD11F63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65A-3B2E-4DE2-A339-D7967F7A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CA1-D121-418F-9238-E3BF0474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551-A411-417C-81D4-F783AE97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1D9-1CBB-4221-82A7-0276B3FE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4A0-8406-4E66-8642-8C6F3F6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9C6-3D73-4DF8-8152-B00145B1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384-9B1A-49A0-B7A8-6D98B53F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C62-462D-462B-A7A8-138BC350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B57-09A8-4AF1-8220-B49F23C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E95-864A-4EBE-938D-389226D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38180-3172-4174-9940-606730BDA1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