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77668"/>
        <c:axId val="33004888"/>
      </c:barChart>
      <c:catAx>
        <c:axId val="23177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04888"/>
        <c:crosses val="autoZero"/>
        <c:auto val="1"/>
        <c:lblAlgn val="ctr"/>
        <c:lblOffset val="100"/>
        <c:noMultiLvlLbl val="0"/>
      </c:catAx>
      <c:valAx>
        <c:axId val="330048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77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2589-41F4-4A55-8D1E-EC4C27B3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85E-E708-4372-AD42-9684A13E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7EB-512A-4E5B-9B80-8F198BB0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062-332C-4AB9-A5AA-1B618F48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8711-25CA-46E9-8E01-4AEB5AEB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6740-EA73-4FC9-BBEB-C473437E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51E-A9BF-49F2-BB41-F9A77E6F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E4BD-60E2-46BA-A776-1785F4C0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21D-3BD5-4220-994C-1C14EB9F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E18-578D-41B9-8C3C-476E7BB8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4FF8-A121-4BC9-B8BD-84B75F9F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5F7-1B1E-4426-8B8A-3FC5996C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0FA2B-F5A6-42CD-9C6A-342A0ACEEE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