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405649"/>
        <c:axId val="71895693"/>
      </c:barChart>
      <c:catAx>
        <c:axId val="184056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895693"/>
        <c:crosses val="autoZero"/>
        <c:auto val="1"/>
        <c:lblAlgn val="ctr"/>
        <c:lblOffset val="100"/>
        <c:noMultiLvlLbl val="0"/>
      </c:catAx>
      <c:valAx>
        <c:axId val="718956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4056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D075-5F08-481D-8C4C-F8973FA96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8056-B942-4AA7-8BDE-CFE5B75A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4D97-0DD5-41BD-A67F-5818DB0C7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B752-2BE2-4FE0-8DB1-1C9740D6B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DC51-2856-4FF7-9A72-5951EFF4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A344-3FDD-454E-BC96-1613E12F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A323-EEC0-46AA-855E-4373ACBD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6EB5-52A5-4B5C-BC0C-8EDB14D7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BDF1-7C29-41FB-B297-DB8C8A2E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2DFD-DDF3-45C9-88DE-78742AFD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FF64-4C58-4825-A88D-A9F0A25A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ABE9-AE04-48FF-9F4D-654D8E25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3A2985-6C69-49E9-8C2B-DB703A7BA3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