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1159"/>
        <c:axId val="73827957"/>
      </c:barChart>
      <c:catAx>
        <c:axId val="58581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7957"/>
        <c:crosses val="autoZero"/>
        <c:auto val="1"/>
        <c:lblAlgn val="ctr"/>
        <c:lblOffset val="100"/>
        <c:noMultiLvlLbl val="0"/>
      </c:catAx>
      <c:valAx>
        <c:axId val="73827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1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E23-85C0-4FFC-80C8-EA3E2DD9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076-9862-48CE-80BC-EBE182A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BAE-F839-4835-B9ED-3AEDAAE5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C55-9180-4901-9A99-F7F48A25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67E-052C-4F46-AD10-9B0E57A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67C-DD24-464D-B7A4-AA92532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871-B759-4A97-AE5A-59B62B4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764-093E-48B9-923E-C8893436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5F2-CEDF-4CDC-BCA2-55D954F5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AA5-2DF3-4C71-8F4E-3A6E8ED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198-C6D5-4212-BDDB-94C2D80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DE8-2FB3-47A9-A576-173FE27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C9CEE-9934-4458-A11C-FD29C91833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