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17527"/>
        <c:axId val="74567684"/>
      </c:barChart>
      <c:catAx>
        <c:axId val="46917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67684"/>
        <c:crosses val="autoZero"/>
        <c:auto val="1"/>
        <c:lblAlgn val="ctr"/>
        <c:lblOffset val="100"/>
        <c:noMultiLvlLbl val="0"/>
      </c:catAx>
      <c:valAx>
        <c:axId val="74567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17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768-36E8-4291-9B96-30B4CD83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0CA-8DB3-49A6-B0C3-BF5668DD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AAF-624C-4631-8105-C3AAECE8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F53-9E12-4CD8-8E95-777E045A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A6A-8030-4767-84F2-8FED8A3C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BFB-66FC-41C8-A6F1-1EB027F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AA0-53AE-49AB-9B14-3B9DA46F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7B7-EFA7-4BBA-8107-835D923D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2F5-9277-4579-BBDA-E8770404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762-0C81-4BE5-ACBF-E9FB53A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685-6D4F-4E9C-AAA9-F248793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DA2-2F5B-4CCA-BDFF-C833AF53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13D9-D99B-4ABF-874E-5FE6C21B45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