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997637"/>
        <c:axId val="92525605"/>
      </c:barChart>
      <c:catAx>
        <c:axId val="83997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25605"/>
        <c:crosses val="autoZero"/>
        <c:auto val="1"/>
        <c:lblAlgn val="ctr"/>
        <c:lblOffset val="100"/>
        <c:noMultiLvlLbl val="0"/>
      </c:catAx>
      <c:valAx>
        <c:axId val="92525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97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D8C-D9FC-4AAE-8F4E-5D368833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F9D-C783-402D-97C9-6EB8A164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80B2-81BE-4B94-A74B-352E5DC42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D73C-5B3B-4558-A63E-1B5B223E7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0CAE-BFB4-434D-BD60-F573B183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0E3-CE2D-40FE-9B7B-3E505E57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3C6C-93F8-41C0-B5BC-0ECB20C3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FB8-0678-4D40-88FC-1E643ECB2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86FE-409C-4561-9332-EBE43889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668-679A-4125-A6BC-E453A0B3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255C-4791-4E81-A556-DDBAA6C3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0F4E-FBF5-4020-A432-329B8278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69D9B-AB13-4371-BB61-CEA1BFBBAF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