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69738"/>
        <c:axId val="99290297"/>
      </c:barChart>
      <c:catAx>
        <c:axId val="75697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90297"/>
        <c:crosses val="autoZero"/>
        <c:auto val="1"/>
        <c:lblAlgn val="ctr"/>
        <c:lblOffset val="100"/>
        <c:noMultiLvlLbl val="0"/>
      </c:catAx>
      <c:valAx>
        <c:axId val="992902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97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336B-256D-4FF3-8834-EC062B232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6584-5D64-4316-92E6-4FFF1FD4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22D8-469D-49AB-8F34-2EFCD23EA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AB95-82D4-4531-9322-166809BE6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C8E4-2464-4169-AA2C-A3CB18E6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69E0-5729-4DA5-A82F-747D3A44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6D34-55FC-4FC6-BB10-382E793B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AA98-9600-4BF4-A1C3-7EB4B5CA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4927-394C-4309-89A5-61BDB6AD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81C4-1562-4189-82D1-BE90FA65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BBFD-57B4-40BC-BE7A-12EB0352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49C3-8D91-4791-B57B-99499465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13A75-F10B-4511-AF04-0F0FBBD1F3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