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29587"/>
        <c:axId val="16176540"/>
      </c:barChart>
      <c:catAx>
        <c:axId val="44529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76540"/>
        <c:crosses val="autoZero"/>
        <c:auto val="1"/>
        <c:lblAlgn val="ctr"/>
        <c:lblOffset val="100"/>
        <c:noMultiLvlLbl val="0"/>
      </c:catAx>
      <c:valAx>
        <c:axId val="16176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29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11C-25FE-473B-9166-16B9891B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006-0FD1-4CFC-B864-1BD3B414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90D-F2AF-4137-8E54-90B6D5D8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CC2-FC6E-4A32-8912-F9FE9709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BE4-CD86-44B5-832F-559660C5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5040-82E6-40A3-B1BA-C46CAAEF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F1C-FB41-447A-B9B5-A75EA251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02D-D1A2-4487-A069-06630C85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3F4-92F8-4A9C-8028-230AAE5E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C4A-BD63-4225-B762-63EED034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DAF-CA76-4829-A601-EE1CD84D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3D9-00A5-4643-A1A7-C6C3C5D3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613A9-E70E-46F5-BAD6-FFFE68E18A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