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7388"/>
        <c:axId val="30135556"/>
      </c:barChart>
      <c:catAx>
        <c:axId val="7897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35556"/>
        <c:crosses val="autoZero"/>
        <c:auto val="1"/>
        <c:lblAlgn val="ctr"/>
        <c:lblOffset val="100"/>
        <c:noMultiLvlLbl val="0"/>
      </c:catAx>
      <c:valAx>
        <c:axId val="30135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7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0E4-9C0C-4C7F-A5C5-246641B4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C02-FFA6-45C7-A8B6-676E9418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5D5-650F-4EA6-A1CE-130565D5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224-3DF3-4F5B-B9E0-43644FC3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A87-E8DD-4403-9671-BB29628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272-2414-48BB-96D7-6A76299B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AEC-CF82-451F-A91C-72CD68F6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DDF-EA8D-4BE8-A182-91FB310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83F-6F7A-4720-A106-8B664E20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062-D9DD-4836-8C86-4968F011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8B0-515C-40C6-9C32-C50C3228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723-9058-4DD4-9B85-3E263F8A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02BE4-5163-42AB-8CFE-5233E74ED4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