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05025"/>
        <c:axId val="18463445"/>
      </c:barChart>
      <c:catAx>
        <c:axId val="55205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63445"/>
        <c:crosses val="autoZero"/>
        <c:auto val="1"/>
        <c:lblAlgn val="ctr"/>
        <c:lblOffset val="100"/>
        <c:noMultiLvlLbl val="0"/>
      </c:catAx>
      <c:valAx>
        <c:axId val="18463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05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D17-6DE9-4813-94B8-9689260B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AC9-160D-46E7-A027-93D0373A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C82-40ED-45C9-BCA6-2001418A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D7B-AB59-42AE-BB0D-E16FFAB5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29A-EF21-49B7-A3F6-52BD78B3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F33-5A0C-4554-8E28-7DAE9C88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F1C-8D18-4BA6-87FA-101E4882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8AB-3AC4-4A1B-BE90-2BBA9198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9FB-7FD1-420C-938E-AE332B4A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ACD-77C3-4584-A367-224D463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7D9-0168-460A-8F22-14FC16F8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C98-936D-4287-9C3A-5B400200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02757-83AB-4D09-87E8-6C8BE71D63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