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11880"/>
        <c:axId val="11242713"/>
      </c:barChart>
      <c:catAx>
        <c:axId val="43911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2713"/>
        <c:crosses val="autoZero"/>
        <c:auto val="1"/>
        <c:lblAlgn val="ctr"/>
        <c:lblOffset val="100"/>
        <c:noMultiLvlLbl val="0"/>
      </c:catAx>
      <c:valAx>
        <c:axId val="11242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1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178-5EE8-4A98-B239-289E734F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AFC-0771-4848-8D64-88F7DFD8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F8B-E326-4277-92D5-CFB1559F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3B9-4D75-475C-A32E-C510E54C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960-EDD5-4642-95A5-BBDCE0AB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A7E-CB48-4C06-A516-12324FC0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4BC-01E9-4919-9F71-0FAC7F2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473-A6E9-41AE-B01F-4787079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438-E2AE-492B-BB9C-77CD97A4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35A-3A1B-4129-8A74-C727A01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6F6-0E6A-4962-8F96-E42E9AE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31E-2DBF-4165-832E-F0DA8B0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2FD4E-AE3D-4016-8B3B-E14942397C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