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18370"/>
        <c:axId val="47768474"/>
      </c:barChart>
      <c:catAx>
        <c:axId val="38918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68474"/>
        <c:crosses val="autoZero"/>
        <c:auto val="1"/>
        <c:lblAlgn val="ctr"/>
        <c:lblOffset val="100"/>
        <c:noMultiLvlLbl val="0"/>
      </c:catAx>
      <c:valAx>
        <c:axId val="47768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8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263-AD32-495A-A2E5-DDA6870A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C0F-8134-4432-9F0F-190D276E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AEC-B3FE-4597-B274-A6440F3B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99B-5E39-4C77-ABF9-99103405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FFD-3835-46CB-8AD1-3084912B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C08-29B1-4569-8E6D-C755690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FB9-9D29-4D23-92CC-EAA4F7D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D47-6B7C-4D31-9B3F-A313224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F97-7F09-4F5A-8252-17B37D5A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41F-9200-47C5-9B4D-280E4E0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82A-082D-45F0-8407-E50BC49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B51-62C3-43EE-A33A-5E2027A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07DA8-1E92-4837-8EB7-541F8D630F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