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97853"/>
        <c:axId val="58429454"/>
      </c:barChart>
      <c:catAx>
        <c:axId val="2799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29454"/>
        <c:crosses val="autoZero"/>
        <c:auto val="1"/>
        <c:lblAlgn val="ctr"/>
        <c:lblOffset val="100"/>
        <c:noMultiLvlLbl val="0"/>
      </c:catAx>
      <c:valAx>
        <c:axId val="58429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9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F9C-BA83-4B90-8709-73D4F6C3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CA7-7F2D-4532-BE22-63A2FD40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DF3-C96C-4B88-ADC4-962661C2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CEA-CB1A-41C3-93C2-19F70B64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430-94B9-4456-B7F7-7674188C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68A-9DA2-4711-9CCF-5FBFACF1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3EC-899F-4D13-9C6D-A0F65C84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6C7-639F-46BE-B4F7-BD2371E9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31A-BDCE-43A0-814F-FC58E03A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CBE-A811-48A5-9B67-D69E611A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7D1-CCA7-4F67-BD16-0B5707CA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388-DA43-4AB2-B55E-D7A64EE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37467-6287-4622-A554-60A9681820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