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481379"/>
        <c:axId val="17223185"/>
      </c:barChart>
      <c:catAx>
        <c:axId val="384813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223185"/>
        <c:crosses val="autoZero"/>
        <c:auto val="1"/>
        <c:lblAlgn val="ctr"/>
        <c:lblOffset val="100"/>
        <c:noMultiLvlLbl val="0"/>
      </c:catAx>
      <c:valAx>
        <c:axId val="172231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4813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0DCD-4405-4B75-892A-82ABBCC39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7657-A1CB-41C6-BBB4-07CFDFF36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188B-7FDC-40C5-A001-BC3B0A44A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78E5-2D31-4437-94B5-CE045D065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C55F-58CD-46F5-A655-BD57062AF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FE6E-C5F8-4DC3-92F2-0CFEA21C8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C57F-2F52-4C57-8772-1E801C541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016F-5C7B-43A8-BBAF-8B9540C12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30A9-88DD-4B3E-9EB5-8777E3650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33C7-03A6-48B7-AFD5-7136FBBC0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6315-AE12-4ADA-AB19-0AB13DC96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AA31-E082-41BB-93DD-51664BB7D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9EA806-70B2-4C6D-897E-FC2FB9B576E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