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74905"/>
        <c:axId val="94909887"/>
      </c:barChart>
      <c:catAx>
        <c:axId val="71674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09887"/>
        <c:crosses val="autoZero"/>
        <c:auto val="1"/>
        <c:lblAlgn val="ctr"/>
        <c:lblOffset val="100"/>
        <c:noMultiLvlLbl val="0"/>
      </c:catAx>
      <c:valAx>
        <c:axId val="94909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74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CFC-9D96-43DD-9BD8-480E6EC8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AD6-6D4E-4AB0-B7D2-514C3280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39C-3AFE-46D6-81B8-38FB26D3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50B-E2E8-42F0-AD57-D3E22063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925-5E2D-45A2-A473-79DFF5D5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94B-5BEC-4BCA-8B0B-483D9F42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9F5-297B-4262-B461-8E21D4BB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B53-C074-4A2E-B534-D5925549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478-00CD-45C5-9FF3-86D6E308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892-E3E6-4BBD-A102-728E1046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7A8-8A71-4A11-9E1E-C867276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2AB-B513-44A0-A4F1-15D6816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5D29E-C7E8-4EAB-A9A8-4DEC93EF07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