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9362"/>
        <c:axId val="68943467"/>
      </c:barChart>
      <c:catAx>
        <c:axId val="9369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43467"/>
        <c:crosses val="autoZero"/>
        <c:auto val="1"/>
        <c:lblAlgn val="ctr"/>
        <c:lblOffset val="100"/>
        <c:noMultiLvlLbl val="0"/>
      </c:catAx>
      <c:valAx>
        <c:axId val="68943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653-0917-4E47-968E-1C6D9865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1E5-F694-4C07-9423-3402A3F5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7B2-3DD5-431D-9EA6-0C4E0791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1EB-5B57-4BAD-AB46-C8D63A63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B18-D6F3-472F-BE8E-950CA06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03D-77F1-46D2-8679-2F1A19C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87C-F973-40A6-B43C-DB6D3BE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C3B-8C6F-4677-8CDC-9C213765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7DB-8B4C-4D2E-988B-BD622F6E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A03-7C09-4930-B485-DCBCD8E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D73-3135-4530-88E7-0223920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A8A-BB91-4C12-94E0-17CFAF3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B29A4-7DA8-4C86-AF91-CCA9CA88EF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